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007-8DFA-4584-AED4-B5528400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7BA-D978-4C5B-82F4-C24F13D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303-5F8D-459C-86BF-D1DA38EC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C52-5E21-47F3-A7EC-86FFB5FA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59B-10C9-4EA9-ADE3-9E2D90E6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4B5-F1A4-4FAF-9D52-5B810CE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1457-531E-433B-8CAF-6E0FC569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CA8-5200-48F7-88E8-4260C69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966-1141-42D0-B2AB-685025F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461A-731D-4935-BF6B-708F85B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F56-3B02-44AF-92CF-840935E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845-E0C1-419B-A994-E2F02A20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4F5-6008-47F2-87A8-A483509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C958-EF21-430F-A5EE-AD7B79F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806-4BB0-4005-A088-A95AC29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2337-25EC-4976-96E4-A91ADC34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F39-4AC1-4603-9CD3-FB59EA72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DBDA-0FC8-43C5-A0FC-43F1501B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00D0-3EF3-4F6F-8C79-DDAC314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27BB-DDEB-443B-9E54-4633B58A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59CE-E974-4C86-97A6-525CC7E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3B66-47F1-4581-830B-86BEEB23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F93-0F82-494E-97C0-6714EFA3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AC90-73D4-4315-91CE-C4CD1EF1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92EF-5B6A-40E2-8C45-9E9B6BB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692F-6DEB-4305-B395-1E50871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9E01-C976-4C5E-8D3A-CA9F48C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64B5-6691-4CB7-A826-7A002A19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3593-1601-4EAE-84AC-5A489D95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F381-9C6A-49BF-B4AB-67476233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0E56-7E63-4120-8401-A0BE571A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77FC-9630-483B-AA24-8D227E70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F216-001D-465A-BBB5-9B40ED7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166-2DEE-43FC-A2BD-3FF760E2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DA33-513F-4A13-9252-4BA599E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9221-23F3-4326-991E-57900D3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6D63-3C2B-4247-B4B0-84772857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12AD-275E-49F9-9F70-40BEE99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A07F-D3A1-4536-9CDC-F8D8008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41E2-6F04-43C2-9CF0-D625F42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47FA-A8F9-4FEA-B643-BC91A41C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8D5B-B1DE-4CEA-8567-630CB0D1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F288-65C5-4621-98E7-BD27A672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001-17AC-47F3-A601-8EFC9208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AFB-46B9-439B-954E-5D8E564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509-E211-4438-8436-05BF09D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BB1-9C1C-4D75-9937-1303068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2A5-FD11-4AC2-A6ED-BFDBA6F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16A-4DD5-46D5-848D-68961602D8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9EC-366E-4592-BF7B-7AA1B1714B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8B7-8F75-4D58-BD6A-C54293B929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C2D-EDAE-4073-BF7F-AC9514F147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cnx.org%2Fcontents%2Fd50f33f7-a993-4f12-b841-7d0db2a4f556%404&amp;ei=55afVdCqIcLSU9mqgEg&amp;bvm=bv.97653015,d.bGQ&amp;psig=AFQjCNFEbn5wB370nfv6rkptHx5Vv9_t3A&amp;ust=143660777626435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nature.com%2Fonc%2Fjournal%2Fv27%2Fn53%2Ffig_tab%2Fonc2008276f1.html&amp;ei=F5mfVeTwAoX8UJS7r6AL&amp;bvm=bv.97653015,d.bGQ&amp;psig=AFQjCNE4nRac-JaezWPY2MMuailDOUzJDg&amp;ust=143660912701510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cec0c"/>
                </a:solidFill>
                <a:latin typeface="Arial"/>
              </a:rPr>
              <a:t>3. </a:t>
            </a:r>
            <a:r>
              <a:rPr b="1" lang="sr-CS" sz="5000" spc="-1" strike="noStrike">
                <a:solidFill>
                  <a:srgbClr val="ecec0c"/>
                </a:solidFill>
                <a:latin typeface="Arial"/>
              </a:rPr>
              <a:t>ГЕНЕТ</a:t>
            </a:r>
            <a:r>
              <a:rPr b="1" lang="en-US" sz="5000" spc="-1" strike="noStrike">
                <a:solidFill>
                  <a:srgbClr val="ecec0c"/>
                </a:solidFill>
                <a:latin typeface="Arial"/>
              </a:rPr>
              <a:t>ИЧ</a:t>
            </a:r>
            <a:r>
              <a:rPr b="1" lang="sr-CS" sz="5000" spc="-1" strike="noStrike">
                <a:solidFill>
                  <a:srgbClr val="ecec0c"/>
                </a:solidFill>
                <a:latin typeface="Arial"/>
              </a:rPr>
              <a:t>КЕ РЕКОМБИН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Мејотички кросинг-ове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3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 размену одговарајућих делова хомологих хромозома у току мејотичке деобе на ступњу хромозомских тетрад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иње у пахитену, услед чега се у диплотену формирају хијазме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међу несестринских хромат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http://cnx.org/resources/d1d6d40eb129082294e3e2efc4af49777c9b9524/Figure_07_02_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844640"/>
            <a:ext cx="3291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rossing-over-1"/>
          <p:cNvPicPr/>
          <p:nvPr/>
        </p:nvPicPr>
        <p:blipFill>
          <a:blip r:embed="rId1"/>
          <a:srcRect l="0" t="0" r="0" b="8564"/>
          <a:stretch/>
        </p:blipFill>
        <p:spPr>
          <a:xfrm>
            <a:off x="250920" y="2205000"/>
            <a:ext cx="6121440" cy="4103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539640" y="439560"/>
            <a:ext cx="7920000" cy="1068840"/>
          </a:xfrm>
          <a:prstGeom prst="rect">
            <a:avLst/>
          </a:prstGeom>
          <a:solidFill>
            <a:srgbClr val="fbdad1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јотички кросинг-овер је извор генетичке разноврсности гамета 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619280" y="5229360"/>
            <a:ext cx="1008000" cy="337320"/>
          </a:xfrm>
          <a:prstGeom prst="rect">
            <a:avLst/>
          </a:prstGeom>
          <a:solidFill>
            <a:srgbClr val="20c9f8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Гам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502320" y="2421000"/>
            <a:ext cx="2232000" cy="3816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место два типа гамета услед дешавањ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о. настају четири типа га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Гамети 2 и 3 су настали услед  дешавања к.о.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 садрже нове комбинације г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ff"/>
                </a:solidFill>
                <a:latin typeface="Arial"/>
              </a:rPr>
              <a:t>Гамети 1 и 4 су настали  без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sr-RS" sz="1800" spc="-1" strike="noStrike">
                <a:solidFill>
                  <a:srgbClr val="0000ff"/>
                </a:solidFill>
                <a:latin typeface="Arial"/>
              </a:rPr>
              <a:t>.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627280" y="6237360"/>
            <a:ext cx="360360" cy="28728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635280" y="6237360"/>
            <a:ext cx="360360" cy="287280"/>
          </a:xfrm>
          <a:prstGeom prst="ellipse">
            <a:avLst/>
          </a:prstGeom>
          <a:solidFill>
            <a:srgbClr val="fbdad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4356000" y="6237360"/>
            <a:ext cx="360360" cy="287280"/>
          </a:xfrm>
          <a:prstGeom prst="ellipse">
            <a:avLst/>
          </a:prstGeom>
          <a:solidFill>
            <a:srgbClr val="fbdad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5219640" y="6237360"/>
            <a:ext cx="360360" cy="28728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Митотички кросинг-ове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38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шава се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есним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оматс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ћелијама у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G2 фаз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терф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да долази до размене одговарајућих сегменат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еђу хроматидама једног хромозо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естринске хроматид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тотички к.о. представљ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ff"/>
                </a:solidFill>
                <a:latin typeface="Arial"/>
              </a:rPr>
              <a:t>пострепликативни репаративни механиз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http://www.nature.com/onc/journal/v27/n53/images/onc2008276f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484280"/>
            <a:ext cx="3958920" cy="4176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978360" y="5516640"/>
            <a:ext cx="5003640" cy="105228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релице показују хромозоме у којима се десила размена међу сестринским хроматидама (РСХ или 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CE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640" y="90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 учесталос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о. могу да утич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ред генетичких фактора, и средински фактори као што су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92360" y="2276280"/>
            <a:ext cx="6121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старост испит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. пол испит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хемијс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.  физ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и који се налазе на истом хромозому и који се заједно (везано) преносе у наредну генерацију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и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 које детерминишу везани гени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е (корелативне) особ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68360" y="692280"/>
            <a:ext cx="77756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2060"/>
                </a:solidFill>
                <a:latin typeface="Arial"/>
              </a:rPr>
              <a:t>Кросинг-овер у мапирању гена у хромоз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ост  гена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ниј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апсолутна, везани ген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гу да буду раздвојени кросинг-овером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15-05a-RecombGametes-L"/>
          <p:cNvPicPr/>
          <p:nvPr/>
        </p:nvPicPr>
        <p:blipFill>
          <a:blip r:embed="rId1"/>
          <a:stretch/>
        </p:blipFill>
        <p:spPr>
          <a:xfrm>
            <a:off x="900000" y="2708280"/>
            <a:ext cx="7313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стоји корелација између раздаљине гена на хромозому и фреквенце дешавањ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о.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0" name="Picture 5" descr="15-06-RecombFrequencies-L"/>
          <p:cNvPicPr/>
          <p:nvPr/>
        </p:nvPicPr>
        <p:blipFill>
          <a:blip r:embed="rId1"/>
          <a:stretch/>
        </p:blipFill>
        <p:spPr>
          <a:xfrm>
            <a:off x="826920" y="4149720"/>
            <a:ext cx="7313760" cy="2016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324000" y="2276640"/>
            <a:ext cx="8516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Што су два гена у хромозому удаљен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већи је % дешавања коросинг-овер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њи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480" y="620640"/>
            <a:ext cx="8382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Јединица за растојање ме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у генима је % дешавања кросинг-о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мас Морган је први уочио да постоји корелација између растојања два везана гена и фреквенце дешавања кросинг-ов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да је јединица: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% c.о. = </a:t>
            </a: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1 центиморган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пирање  два везана ге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10_17"/>
          <p:cNvPicPr/>
          <p:nvPr/>
        </p:nvPicPr>
        <p:blipFill>
          <a:blip r:embed="rId1"/>
          <a:stretch/>
        </p:blipFill>
        <p:spPr>
          <a:xfrm>
            <a:off x="611280" y="1628640"/>
            <a:ext cx="799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пирање 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а ген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rosing-over"/>
          <p:cNvPicPr/>
          <p:nvPr/>
        </p:nvPicPr>
        <p:blipFill>
          <a:blip r:embed="rId1"/>
          <a:stretch/>
        </p:blipFill>
        <p:spPr>
          <a:xfrm>
            <a:off x="3348000" y="333360"/>
            <a:ext cx="54831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4596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екомбинаци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у извор варијабилности у живом свет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нове комбин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ећих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а  у хромоз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Могу да бу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1. Хомол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размена хомологих сегмената између два хомолога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Специјализован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е на извесне регионе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ранспози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и сегменти ДНК мењају свој полож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транспоз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е појаве које ремете мапирање гена посредством кросинг-овера су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18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Интерференција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дешавање к.о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једном крају хромоз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мањује могућнос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њего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шава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другом крају хромоз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оинциденција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дешавање к.о. на једном крају хромозома повећава вероватноћу његовог дешавања на другом к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 dvostr.c.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j.c.o. x % j.c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I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335736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dbf5f9"/>
                </a:solidFill>
                <a:latin typeface="Arial"/>
              </a:rPr>
              <a:t>ГЕНЕТИЧКЕ РЕКОМБИН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и који се налазе на истом хромозому и који се заједно (везано) преносе у наредну генерацију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и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 које детерминишу везани гени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е (корелативне) особ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68360" y="692280"/>
            <a:ext cx="77756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2060"/>
                </a:solidFill>
                <a:latin typeface="Arial"/>
              </a:rPr>
              <a:t>Кросинг-овер у мапирању гена у хромоз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ост  гена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ниј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апсолутна, везани ген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гу да буду раздвојени кросинг-овером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15-05a-RecombGametes-L"/>
          <p:cNvPicPr/>
          <p:nvPr/>
        </p:nvPicPr>
        <p:blipFill>
          <a:blip r:embed="rId2"/>
          <a:stretch/>
        </p:blipFill>
        <p:spPr>
          <a:xfrm>
            <a:off x="900000" y="2708280"/>
            <a:ext cx="7313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стоји корелација између раздаљине гена на хромозому и фреквенце дешавањ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о.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6" name="Picture 5" descr="15-06-RecombFrequencies-L"/>
          <p:cNvPicPr/>
          <p:nvPr/>
        </p:nvPicPr>
        <p:blipFill>
          <a:blip r:embed="rId2"/>
          <a:stretch/>
        </p:blipFill>
        <p:spPr>
          <a:xfrm>
            <a:off x="826920" y="3068640"/>
            <a:ext cx="7313760" cy="3097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0" y="119700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Што су два гена у хромозому удаљенија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већи је % дешавања коросинг-овер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њи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480" y="620640"/>
            <a:ext cx="7778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Јединица за растојање ме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у генима је </a:t>
            </a: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проценат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дешавања кросинг-о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% c.о. = </a:t>
            </a: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1 центиморган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3" descr=""/>
          <p:cNvPicPr/>
          <p:nvPr/>
        </p:nvPicPr>
        <p:blipFill>
          <a:blip r:embed="rId2"/>
          <a:stretch/>
        </p:blipFill>
        <p:spPr>
          <a:xfrm>
            <a:off x="469800" y="1316160"/>
            <a:ext cx="8204400" cy="1366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780000" y="3357360"/>
            <a:ext cx="1584000" cy="25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комбинације сусрећемо на свим нивоима организације живе материје, код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бцелуларних организа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кари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укари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Субцелуларни организми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вирус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олико истовремено једну ћелију инфицирају два вир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:    АБ  х а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:  АБ,    аб, 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Аб,    аБ           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рекомбинант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 једи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Прокариот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комбинациони механизми код бактерија су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оњуг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генетичког материјала се остварује директним контактом две бактеријске ћел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рансформ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слободних сегмената ДНК из једне у другу бактеријску ћелиј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рши се без њиховог директног контак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рансдук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сегмената ДНК обавља се помоћу вектор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sf14x1box"/>
          <p:cNvPicPr/>
          <p:nvPr/>
        </p:nvPicPr>
        <p:blipFill>
          <a:blip r:embed="rId1"/>
          <a:srcRect l="0" t="2587" r="25323" b="0"/>
          <a:stretch/>
        </p:blipFill>
        <p:spPr>
          <a:xfrm>
            <a:off x="4724280" y="762120"/>
            <a:ext cx="3397320" cy="5738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1. Коњуг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 донор (</a:t>
            </a:r>
            <a:r>
              <a:rPr b="1" lang="en-US" sz="2400" spc="-1" strike="noStrike">
                <a:solidFill>
                  <a:srgbClr val="c60063"/>
                </a:solidFill>
                <a:latin typeface="Arial"/>
              </a:rPr>
              <a:t>F+,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 рецептор (</a:t>
            </a:r>
            <a:r>
              <a:rPr b="1" lang="en-US" sz="2400" spc="-1" strike="noStrike">
                <a:solidFill>
                  <a:srgbClr val="c60063"/>
                </a:solidFill>
                <a:latin typeface="Arial"/>
              </a:rPr>
              <a:t>F</a:t>
            </a:r>
            <a:r>
              <a:rPr b="1" lang="sr-CS" sz="2400" spc="-1" strike="noStrike">
                <a:solidFill>
                  <a:srgbClr val="c60063"/>
                </a:solidFill>
                <a:latin typeface="Arial"/>
              </a:rPr>
              <a:t>-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топлазматски мост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90 мин траје коњугација ко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иница за растојање међу ген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временск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884120" y="685800"/>
            <a:ext cx="11667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Донор Ф</a:t>
            </a:r>
            <a:r>
              <a:rPr b="1" lang="en-US" sz="1600" spc="-1" strike="noStrike">
                <a:solidFill>
                  <a:srgbClr val="c60063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713280" y="762120"/>
            <a:ext cx="1432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Рецептор Ф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5037480" y="1981080"/>
            <a:ext cx="1070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Плазм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7093440" y="1981080"/>
            <a:ext cx="16056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c60063"/>
                </a:solidFill>
                <a:latin typeface="Arial"/>
              </a:rPr>
              <a:t>Бактеријски хромоз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Трансформација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ез директног контакта између бактер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2" name="Picture 7" descr="fig2"/>
          <p:cNvPicPr/>
          <p:nvPr/>
        </p:nvPicPr>
        <p:blipFill>
          <a:blip r:embed="rId1"/>
          <a:srcRect l="0" t="8862" r="0" b="3429"/>
          <a:stretch/>
        </p:blipFill>
        <p:spPr>
          <a:xfrm>
            <a:off x="539640" y="2514600"/>
            <a:ext cx="7799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рансдукциј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вер генетичког материјала врши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бактериофаг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04" name="Object 16"/>
          <p:cNvGraphicFramePr/>
          <p:nvPr/>
        </p:nvGraphicFramePr>
        <p:xfrm>
          <a:off x="1116000" y="2276640"/>
          <a:ext cx="667548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66754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укариоте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росинг-ове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rossing- over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синг-овер је 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мена генетичког материјала међу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омо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ром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синг овер може да буде симетричан (размена хомологих сегмената хомологих хромозома) и  асиметричан (размена нехомологих сегмената хомологих хромозом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шава се у мејози,  у полним ћелијама 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јотички c.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  и у  митози, у телесним ћелијама (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итотички c.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07:57Z</dcterms:modified>
  <cp:revision>206</cp:revision>
  <dc:subject/>
  <dc:title>MUTACIJE GENA</dc:title>
</cp:coreProperties>
</file>